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91880" y="1854360"/>
            <a:ext cx="591804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19320" y="5549400"/>
            <a:ext cx="5651280" cy="143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1409760" y="4775040"/>
            <a:ext cx="52830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1879560" y="1599840"/>
            <a:ext cx="924552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5000"/>
          </a:bodyPr>
          <a:p>
            <a:pPr marL="765000" indent="-48420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1054800" indent="-45036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34388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89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79560" y="2527200"/>
            <a:ext cx="9245520" cy="444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6426000"/>
            <a:ext cx="88898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861320" y="2628720"/>
            <a:ext cx="32637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46000"/>
          </a:bodyPr>
          <a:p>
            <a:pPr marL="390600" indent="-2620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547560" indent="-243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70380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89064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hapter 20- Questions  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Emily Kiraly 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rue or False?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ere are specific age levels children should be to be in a specific van Hiele level.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False!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tudents develop differently and at different rates. It is recommended that students be at level 2 at the end of the eighth grade.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his is a tessellation.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8" name=""/>
          <p:cNvSpPr/>
          <p:nvPr/>
        </p:nvSpPr>
        <p:spPr>
          <a:xfrm>
            <a:off x="5689440" y="5194440"/>
            <a:ext cx="1270080" cy="126972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99" name=""/>
          <p:cNvSpPr/>
          <p:nvPr/>
        </p:nvSpPr>
        <p:spPr>
          <a:xfrm>
            <a:off x="5689440" y="3911760"/>
            <a:ext cx="1270080" cy="126972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0" name=""/>
          <p:cNvSpPr/>
          <p:nvPr/>
        </p:nvSpPr>
        <p:spPr>
          <a:xfrm>
            <a:off x="5689440" y="2629080"/>
            <a:ext cx="1270080" cy="126972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1" name=""/>
          <p:cNvSpPr/>
          <p:nvPr/>
        </p:nvSpPr>
        <p:spPr>
          <a:xfrm>
            <a:off x="4394160" y="5181480"/>
            <a:ext cx="1270080" cy="1270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2" name=""/>
          <p:cNvSpPr/>
          <p:nvPr/>
        </p:nvSpPr>
        <p:spPr>
          <a:xfrm>
            <a:off x="6959520" y="5194440"/>
            <a:ext cx="1270080" cy="126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3" name=""/>
          <p:cNvSpPr/>
          <p:nvPr/>
        </p:nvSpPr>
        <p:spPr>
          <a:xfrm>
            <a:off x="4394160" y="3898800"/>
            <a:ext cx="1270080" cy="1270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4" name=""/>
          <p:cNvSpPr/>
          <p:nvPr/>
        </p:nvSpPr>
        <p:spPr>
          <a:xfrm>
            <a:off x="6959520" y="3911760"/>
            <a:ext cx="1270080" cy="126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False!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82000" indent="-55836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A tessellation is a tiling of the plane using one or more shapes in a repeated pattern with no gaps or overlaps.”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marL="882000" indent="-55836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Extra point option! Draw a simple tessellation on the board.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rue or False?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Quadrilaterals are polygons with 5 or more sides.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False!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Quadrilaterals are polygons with four sides.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rue or False?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ransformations are changes in position or size of a shape.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rue!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ransformations are also known as “rigid motions”.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rue or False?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oordinate systems are used to roughly describe the locations of shapes in space.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False!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oordinate systems can be used to describe the location of a shape in space precisely.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rue or False?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People are naturally born with spatial sense. You either have it or you don’t.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False!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When people are provided over time with rich experiences with shape and spatial relationships can develop spatial sense.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rue or False?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Level 0 is defined as being shapes and what they “look like”.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rue!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Extra point option. What is the other name of level 0 in the van Hiele Levels of Geometric Thought?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rue or False?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At level 2, students should be able to develop relationships between objects and describe some of the properties of these objects.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rue!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Extra point option. What is an activity that can be done with Level 2 of the van Hiele method?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